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BF6-42E1-48E3-8D24-2CBB7A2F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6A2-571A-4478-9BFC-7384215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13D-2A74-4AEA-BDB9-808FEE89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A36-BAD9-48A2-938C-8F58CBD4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257-4AED-4CFE-8110-2A82AE9A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099-5CA0-4FF1-96FE-F1FB362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824-CD6C-4B75-B5BF-E5ED621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57E-58C5-4EC8-85FE-9B7FB3DC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943-4EDE-4C51-8189-05C1B105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089-EE88-4A2D-B2A4-1F5B912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C5F-9EF7-4909-B643-39BDB83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8C3-D0D7-4FBD-B721-24710EC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9DD-10D0-4EC2-B177-0229ED1A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axymap" descr=""/>
          <p:cNvPicPr/>
          <p:nvPr/>
        </p:nvPicPr>
        <p:blipFill>
          <a:blip r:embed="rId1"/>
          <a:stretch/>
        </p:blipFill>
        <p:spPr>
          <a:xfrm>
            <a:off x="336600" y="609480"/>
            <a:ext cx="64134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Sklick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5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Wac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Or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14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H‘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Y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09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roy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ub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98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r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133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of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0481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PH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038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explored Side of the Gala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879400">
            <a:off x="3902040" y="1815840"/>
            <a:ext cx="1136880" cy="10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06000">
            <a:off x="3586320" y="19220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806000">
            <a:off x="3809880" y="1599840"/>
            <a:ext cx="3812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813600">
            <a:off x="2577960" y="1266480"/>
            <a:ext cx="1219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8288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4382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6668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 Wor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1:05:54Z</dcterms:created>
  <dc:creator>Robert Prätzler</dc:creator>
  <dc:description/>
  <dc:language>en-US</dc:language>
  <cp:lastModifiedBy>Robert Prätzler</cp:lastModifiedBy>
  <dcterms:modified xsi:type="dcterms:W3CDTF">2004-12-01T20:52:47Z</dcterms:modified>
  <cp:revision>12</cp:revision>
  <dc:subject/>
  <dc:title>PowerPoint-Präsentation</dc:title>
</cp:coreProperties>
</file>