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E3FC-1C93-4F10-B119-BA7706B1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B72F-FF2B-4BE3-8774-BE85D971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824B-F676-42EB-B4F9-6733AE51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366-4CCD-4DD3-8389-32EF279F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8B53-DA96-4E52-8994-A505110F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120B-7F3F-46D4-B880-980EFB1E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51C8-8C75-4618-A141-F9DFC293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1FF-9B4A-4051-9E3B-F3589B06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4409-3E1A-44BD-8B63-DCF17A0D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AB2-EB95-4666-BCED-3F3F7946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1BF-BC24-485C-82BE-BCE292E7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5000-D682-40B4-9878-67DD1251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2381-34B9-4C29-A983-31842FFAF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alaxymap" descr=""/>
          <p:cNvPicPr/>
          <p:nvPr/>
        </p:nvPicPr>
        <p:blipFill>
          <a:blip r:embed="rId1"/>
          <a:stretch/>
        </p:blipFill>
        <p:spPr>
          <a:xfrm>
            <a:off x="336600" y="609480"/>
            <a:ext cx="641340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1981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670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2590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514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1905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905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Sklick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057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Wach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25909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Or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25146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H‘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2438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Y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2209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Froy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1600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Dub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1981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r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21337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Loff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30481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ERIPH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40384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Unexplored Side of the Galax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514600"/>
            <a:ext cx="5331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2879400">
            <a:off x="3902040" y="1815840"/>
            <a:ext cx="1136880" cy="1015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9806000">
            <a:off x="3586320" y="1922040"/>
            <a:ext cx="38088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9806000">
            <a:off x="3809880" y="1599840"/>
            <a:ext cx="38124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8813600">
            <a:off x="2577960" y="1266480"/>
            <a:ext cx="121932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82880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243828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266688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ee Worl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13716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r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1:05:54Z</dcterms:created>
  <dc:creator>Robert Prätzler</dc:creator>
  <dc:description/>
  <dc:language>en-US</dc:language>
  <cp:lastModifiedBy>Robert Prätzler</cp:lastModifiedBy>
  <dcterms:modified xsi:type="dcterms:W3CDTF">2004-12-01T20:52:47Z</dcterms:modified>
  <cp:revision>12</cp:revision>
  <dc:subject/>
  <dc:title>PowerPoint-Präsentation</dc:title>
</cp:coreProperties>
</file>