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E65-C3D2-4195-B4E4-58B4BC6F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76C-8518-415D-96E9-F426813D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72C-3984-415C-91CE-5189269D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692-0C07-4205-B10A-96D20E14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09E-354F-42DD-A12C-2B4FF18B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60B-C5F3-453B-8928-13746FAD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FC5-72EE-4000-81A3-D66BE298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112-D21B-4CBD-87DB-4800EBDF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5BE-9A1D-4779-8C46-FEFA8FFF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7C2-4AF1-4583-91C4-5E43361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693-D885-49C1-889C-0E11076D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B00-AE01-45DD-B069-40B4671F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2169-56D6-4677-BD04-A15F74D31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laxymap" descr=""/>
          <p:cNvPicPr/>
          <p:nvPr/>
        </p:nvPicPr>
        <p:blipFill>
          <a:blip r:embed="rId1"/>
          <a:stretch/>
        </p:blipFill>
        <p:spPr>
          <a:xfrm>
            <a:off x="336600" y="609480"/>
            <a:ext cx="641340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Sklick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5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Wac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25909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Or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514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H‘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438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Y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209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Froy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600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Dub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1981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r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21337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Loff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0481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IPHER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40384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erforschte Seite der Galax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1460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879400">
            <a:off x="3902040" y="1815840"/>
            <a:ext cx="1136880" cy="101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806000">
            <a:off x="3586320" y="192204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806000">
            <a:off x="3809880" y="1599840"/>
            <a:ext cx="3812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8813600">
            <a:off x="2577960" y="1266480"/>
            <a:ext cx="1219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82880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24382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266688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ie Wel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371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1:05:54Z</dcterms:created>
  <dc:creator>Robert Prätzler</dc:creator>
  <dc:description/>
  <dc:language>en-US</dc:language>
  <cp:lastModifiedBy>Robert Prätzler</cp:lastModifiedBy>
  <dcterms:modified xsi:type="dcterms:W3CDTF">2004-12-01T20:52:02Z</dcterms:modified>
  <cp:revision>11</cp:revision>
  <dc:subject/>
  <dc:title>PowerPoint-Präsentation</dc:title>
</cp:coreProperties>
</file>