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25C-4C52-4ACD-8F8D-CDE78CC0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BCB-0187-4125-B466-89590964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6B7-4044-4DA6-97AC-F7E28CBE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5CE-F829-49A1-8C26-ED581CBE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1A4-66F7-4EF8-B838-CE45F72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048-78B7-43A9-A0CA-A44098F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DE2-35BD-4BCE-87B5-FB570C05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D7A-3E86-4C11-A546-4905DF6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F30-79DD-4F1F-A57A-0E5B34C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661-44C6-4682-A342-08BAC24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B88-2745-42A7-A49F-F187E09C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9E6-D1F1-4FB4-BB5F-9DA1F5FD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0C50-2AC2-4988-A32F-C96114B81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axymap" descr=""/>
          <p:cNvPicPr/>
          <p:nvPr/>
        </p:nvPicPr>
        <p:blipFill>
          <a:blip r:embed="rId1"/>
          <a:stretch/>
        </p:blipFill>
        <p:spPr>
          <a:xfrm>
            <a:off x="336600" y="609480"/>
            <a:ext cx="641340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Sklick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5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Wac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Or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514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H‘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438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Y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209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roy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600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Dub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981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r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133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Lof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0481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PHER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0384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erforschte Seite der Galax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1460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879400">
            <a:off x="3902040" y="1815840"/>
            <a:ext cx="1136880" cy="101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806000">
            <a:off x="3586320" y="19220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806000">
            <a:off x="3809880" y="1599840"/>
            <a:ext cx="3812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8813600">
            <a:off x="2577960" y="1266480"/>
            <a:ext cx="1219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82880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24382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6668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ie Wel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371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1:05:54Z</dcterms:created>
  <dc:creator>Robert Prätzler</dc:creator>
  <dc:description/>
  <dc:language>en-US</dc:language>
  <cp:lastModifiedBy>Robert Prätzler</cp:lastModifiedBy>
  <dcterms:modified xsi:type="dcterms:W3CDTF">2004-12-01T20:52:02Z</dcterms:modified>
  <cp:revision>11</cp:revision>
  <dc:subject/>
  <dc:title>PowerPoint-Präsentation</dc:title>
</cp:coreProperties>
</file>